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8E1-D894-4DAB-9D7D-A11EA41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A27-09B0-4F9F-AB89-0A67C2E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D10-E6FB-4476-A95C-ED5DC66E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BCB-8E8D-4D85-B7F4-5C465C73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C03-9E80-4AB3-B981-BF59B1D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D2F-2B01-465A-AB87-83FA20A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62A-851F-485D-BB7B-085BFBA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588-4F09-44F4-A313-66DD0CBB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280-17A5-4893-B15A-8672DE1F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36A-F1EF-40EF-81F6-615A56E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B3D-BFBE-4862-8C53-171BCB9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EDC-2612-4721-A2B3-C78B266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AE0A-D49B-407D-B17C-D792143D15C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MUNICIPAL DEL DEP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8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3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94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5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6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7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9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0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upo 24"/>
          <p:cNvGrpSpPr/>
          <p:nvPr/>
        </p:nvGrpSpPr>
        <p:grpSpPr>
          <a:xfrm>
            <a:off x="838080" y="4159080"/>
            <a:ext cx="5112000" cy="702000"/>
            <a:chOff x="838080" y="4159080"/>
            <a:chExt cx="5112000" cy="702000"/>
          </a:xfrm>
        </p:grpSpPr>
        <p:sp>
          <p:nvSpPr>
            <p:cNvPr id="307" name="36 Rectángulo"/>
            <p:cNvSpPr/>
            <p:nvPr/>
          </p:nvSpPr>
          <p:spPr>
            <a:xfrm>
              <a:off x="838080" y="4159080"/>
              <a:ext cx="5112000" cy="702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35 CuadroTexto"/>
            <p:cNvSpPr/>
            <p:nvPr/>
          </p:nvSpPr>
          <p:spPr>
            <a:xfrm>
              <a:off x="1606320" y="4314600"/>
              <a:ext cx="35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uadroTexto 2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1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313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7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32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8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9" name="27 CuadroTexto"/>
            <p:cNvSpPr/>
            <p:nvPr/>
          </p:nvSpPr>
          <p:spPr>
            <a:xfrm>
              <a:off x="797040" y="16956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26 CuadroTexto"/>
            <p:cNvSpPr/>
            <p:nvPr/>
          </p:nvSpPr>
          <p:spPr>
            <a:xfrm>
              <a:off x="360000" y="1245960"/>
              <a:ext cx="2076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IR. COMITÉ MUNICIPAL DEL DE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DIRECTOR DEL COMITÉ MUNICIPAL DEL DEPORTE Dependencia: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Comité municipal del depor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99 CuadroTexto"/>
            <p:cNvSpPr/>
            <p:nvPr/>
          </p:nvSpPr>
          <p:spPr>
            <a:xfrm>
              <a:off x="647640" y="5726520"/>
              <a:ext cx="55454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jorar las condiciones de vida de la población, a través de la promoción y práctica sistemática de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52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53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54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55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6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7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58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0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62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3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4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5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6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7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8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7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8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9" name="27 CuadroTexto"/>
            <p:cNvSpPr/>
            <p:nvPr/>
          </p:nvSpPr>
          <p:spPr>
            <a:xfrm>
              <a:off x="797760" y="1695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87 CuadroTexto"/>
          <p:cNvSpPr/>
          <p:nvPr/>
        </p:nvSpPr>
        <p:spPr>
          <a:xfrm>
            <a:off x="777960" y="2873520"/>
            <a:ext cx="5543640" cy="68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.   Asentar e integrar el sistema municipal del deporte.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2.   Concertar acciones tendientes a la promoción organizada y sistematizada de la recreación, la actividad física y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3.  Asentar un patronato que le permita auto gestionar parte de los recursos necesarios para efectuar sus fun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4.   Determinar un programa, calendario y presupuesto para el desarrollo deportivo y apoyos Técnicos administr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5.    Vigilar el buen desempeño de los comités asentados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6 .  Apoyar a las organizaciones ciudadanas, asociaciones civiles, así como, a las dependencias y entidades federales, estatales y municipales que dentro de la normatividad establecida impulsen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7.   Planear, programar, difundir y realizar eventos deportivos y recre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Fomentar  la  organización  de  encuentros  deportivos  locales,  a  nivel  estatal,  regional, nacional e internacion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9.  Determinar los requerimientos del deporte municipal, así como, planear, gestionar y promover los medios para satisfacer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0. Propiciar  la  participación  de  los  organismos  deportivos,  los  deportistas  y  los ciudadanos en general, en determinación de las políticas municipales a que se refiere la fracción I de este artícul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6 CuadroTexto"/>
          <p:cNvSpPr/>
          <p:nvPr/>
        </p:nvSpPr>
        <p:spPr>
          <a:xfrm>
            <a:off x="2162160" y="2397240"/>
            <a:ext cx="2559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95 Rectángulo"/>
          <p:cNvSpPr/>
          <p:nvPr/>
        </p:nvSpPr>
        <p:spPr>
          <a:xfrm>
            <a:off x="687240" y="2351160"/>
            <a:ext cx="5724720" cy="47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adroTexto 1"/>
          <p:cNvSpPr/>
          <p:nvPr/>
        </p:nvSpPr>
        <p:spPr>
          <a:xfrm>
            <a:off x="2603520" y="2435400"/>
            <a:ext cx="18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89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90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91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2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3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4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95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7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8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99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0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1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2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3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4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5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upo 46"/>
            <p:cNvGrpSpPr/>
            <p:nvPr/>
          </p:nvGrpSpPr>
          <p:grpSpPr>
            <a:xfrm>
              <a:off x="798480" y="2396520"/>
              <a:ext cx="5542200" cy="3341880"/>
              <a:chOff x="798480" y="2396520"/>
              <a:chExt cx="5542200" cy="3341880"/>
            </a:xfrm>
          </p:grpSpPr>
          <p:sp>
            <p:nvSpPr>
              <p:cNvPr id="412" name="87 CuadroTexto"/>
              <p:cNvSpPr/>
              <p:nvPr/>
            </p:nvSpPr>
            <p:spPr>
              <a:xfrm>
                <a:off x="798480" y="2423880"/>
                <a:ext cx="5542200" cy="33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. Propiciar  la  participación  de  los  organismos  deportivos,  los  deportistas  y  los ciudadanos en general, en determinación de las políticas municipales a que se refiere la fracción I de este artícul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. Administrar, conservar y operar las instalaciones que le sean asignadas, buscand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r un servicio eficiente a los usuario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 Promover la construcción de nuevos espacios dedicados a la práctica del deporte.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. Normar y evaluar la participación oficial de deportistas en competencias estatales, regionales y nacionale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35 CuadroTexto"/>
              <p:cNvSpPr/>
              <p:nvPr/>
            </p:nvSpPr>
            <p:spPr>
              <a:xfrm>
                <a:off x="849600" y="2736000"/>
                <a:ext cx="1839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96 CuadroTexto"/>
              <p:cNvSpPr/>
              <p:nvPr/>
            </p:nvSpPr>
            <p:spPr>
              <a:xfrm>
                <a:off x="2162520" y="2396520"/>
                <a:ext cx="25588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upo 4"/>
            <p:cNvGrpSpPr/>
            <p:nvPr/>
          </p:nvGrpSpPr>
          <p:grpSpPr>
            <a:xfrm>
              <a:off x="360720" y="1263600"/>
              <a:ext cx="6190920" cy="790920"/>
              <a:chOff x="360720" y="1263600"/>
              <a:chExt cx="6190920" cy="790920"/>
            </a:xfrm>
          </p:grpSpPr>
          <p:sp>
            <p:nvSpPr>
              <p:cNvPr id="416" name="4 Rectángulo"/>
              <p:cNvSpPr/>
              <p:nvPr/>
            </p:nvSpPr>
            <p:spPr>
              <a:xfrm>
                <a:off x="360720" y="1263600"/>
                <a:ext cx="619092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9 Conector recto"/>
              <p:cNvCxnSpPr/>
              <p:nvPr/>
            </p:nvCxnSpPr>
            <p:spPr>
              <a:xfrm>
                <a:off x="4535640" y="12636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8" name="10 Conector recto"/>
              <p:cNvCxnSpPr/>
              <p:nvPr/>
            </p:nvCxnSpPr>
            <p:spPr>
              <a:xfrm>
                <a:off x="2376360" y="12636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9" name="15 Conector recto"/>
              <p:cNvCxnSpPr/>
              <p:nvPr/>
            </p:nvCxnSpPr>
            <p:spPr>
              <a:xfrm>
                <a:off x="360720" y="16948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0" name="28 CuadroTexto"/>
              <p:cNvSpPr/>
              <p:nvPr/>
            </p:nvSpPr>
            <p:spPr>
              <a:xfrm>
                <a:off x="2376720" y="14065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29 CuadroTexto"/>
              <p:cNvSpPr/>
              <p:nvPr/>
            </p:nvSpPr>
            <p:spPr>
              <a:xfrm>
                <a:off x="4464360" y="13348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adroTexto 3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7 CuadroTexto"/>
          <p:cNvSpPr/>
          <p:nvPr/>
        </p:nvSpPr>
        <p:spPr>
          <a:xfrm>
            <a:off x="798480" y="16956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27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428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1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2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5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436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7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8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9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0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1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2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3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4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Director del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99 CuadroTexto"/>
            <p:cNvSpPr/>
            <p:nvPr/>
          </p:nvSpPr>
          <p:spPr>
            <a:xfrm>
              <a:off x="642960" y="5511240"/>
              <a:ext cx="55454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las acciones y programas del Comité Municipal del Deporte, dirigidas a la población en gene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adroTexto 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67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468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469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0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1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2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3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5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6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477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8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9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0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1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2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83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2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3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4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upo 46"/>
          <p:cNvGrpSpPr/>
          <p:nvPr/>
        </p:nvGrpSpPr>
        <p:grpSpPr>
          <a:xfrm>
            <a:off x="687240" y="2351160"/>
            <a:ext cx="5724720" cy="4330080"/>
            <a:chOff x="687240" y="2351160"/>
            <a:chExt cx="5724720" cy="4330080"/>
          </a:xfrm>
        </p:grpSpPr>
        <p:sp>
          <p:nvSpPr>
            <p:cNvPr id="497" name="87 CuadroTexto"/>
            <p:cNvSpPr/>
            <p:nvPr/>
          </p:nvSpPr>
          <p:spPr>
            <a:xfrm>
              <a:off x="777600" y="2975040"/>
              <a:ext cx="55440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r la documentación que diariamente se produce en el área administrativ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nder y proporcionar información al público sobre los servicios que presta el comité municipal d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acciones  con las actividades de la dirección tendientes a la promoción organizada y sistematizada de la recreación, la actividad física y 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logísticamente el desarrollo de las actividades realizadas por el director de comité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 en  programa, calendarios para el desarrollo deportivo y técnicos administrativ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96 CuadroTexto"/>
            <p:cNvSpPr/>
            <p:nvPr/>
          </p:nvSpPr>
          <p:spPr>
            <a:xfrm>
              <a:off x="2162160" y="2396520"/>
              <a:ext cx="25592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95 Rectángulo"/>
            <p:cNvSpPr/>
            <p:nvPr/>
          </p:nvSpPr>
          <p:spPr>
            <a:xfrm>
              <a:off x="687240" y="2351160"/>
              <a:ext cx="5724720" cy="475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CuadroTexto 1"/>
            <p:cNvSpPr/>
            <p:nvPr/>
          </p:nvSpPr>
          <p:spPr>
            <a:xfrm>
              <a:off x="2603520" y="243504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uadroTexto 4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0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513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16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7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8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9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1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2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CuadroTexto 28"/>
            <p:cNvSpPr/>
            <p:nvPr/>
          </p:nvSpPr>
          <p:spPr>
            <a:xfrm>
              <a:off x="4889520" y="8453520"/>
              <a:ext cx="140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23 CuadroTexto"/>
          <p:cNvSpPr/>
          <p:nvPr/>
        </p:nvSpPr>
        <p:spPr>
          <a:xfrm>
            <a:off x="4508640" y="77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31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3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4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5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22 CuadroTexto"/>
            <p:cNvSpPr/>
            <p:nvPr/>
          </p:nvSpPr>
          <p:spPr>
            <a:xfrm>
              <a:off x="763560" y="1565280"/>
              <a:ext cx="5545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MUDE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4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23 CuadroTexto"/>
          <p:cNvSpPr/>
          <p:nvPr/>
        </p:nvSpPr>
        <p:spPr>
          <a:xfrm>
            <a:off x="4508640" y="7779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uadroTexto 25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95280"/>
            <a:ext cx="6191640" cy="8644320"/>
            <a:chOff x="260280" y="395280"/>
            <a:chExt cx="6191640" cy="86443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8021880"/>
              <a:ext cx="5975640" cy="649440"/>
              <a:chOff x="40284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801800"/>
              <a:ext cx="540072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8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  9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TULO DEL PUESTO                                                                                                                        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MUNICIPAL DEL DEPORTE                                                                                            11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1-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4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15-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ángulo 25"/>
            <p:cNvSpPr/>
            <p:nvPr/>
          </p:nvSpPr>
          <p:spPr>
            <a:xfrm>
              <a:off x="685800" y="192852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86 Rectángulo"/>
            <p:cNvSpPr/>
            <p:nvPr/>
          </p:nvSpPr>
          <p:spPr>
            <a:xfrm>
              <a:off x="590400" y="147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87 CuadroTexto"/>
            <p:cNvSpPr/>
            <p:nvPr/>
          </p:nvSpPr>
          <p:spPr>
            <a:xfrm>
              <a:off x="2205000" y="15462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uadroTexto 2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0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03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o 24"/>
          <p:cNvGrpSpPr/>
          <p:nvPr/>
        </p:nvGrpSpPr>
        <p:grpSpPr>
          <a:xfrm>
            <a:off x="601560" y="1474920"/>
            <a:ext cx="5821560" cy="3169440"/>
            <a:chOff x="601560" y="1474920"/>
            <a:chExt cx="5821560" cy="3169440"/>
          </a:xfrm>
        </p:grpSpPr>
        <p:sp>
          <p:nvSpPr>
            <p:cNvPr id="124" name="25 CuadroTexto"/>
            <p:cNvSpPr/>
            <p:nvPr/>
          </p:nvSpPr>
          <p:spPr>
            <a:xfrm>
              <a:off x="663120" y="2206800"/>
              <a:ext cx="57600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69 Rectángulo"/>
            <p:cNvSpPr/>
            <p:nvPr/>
          </p:nvSpPr>
          <p:spPr>
            <a:xfrm>
              <a:off x="601560" y="1474920"/>
              <a:ext cx="57265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70 CuadroTexto"/>
            <p:cNvSpPr/>
            <p:nvPr/>
          </p:nvSpPr>
          <p:spPr>
            <a:xfrm>
              <a:off x="2058840" y="1546200"/>
              <a:ext cx="27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 DEL MAN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Texto 29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3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3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3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upo 24"/>
          <p:cNvGrpSpPr/>
          <p:nvPr/>
        </p:nvGrpSpPr>
        <p:grpSpPr>
          <a:xfrm>
            <a:off x="547560" y="1254240"/>
            <a:ext cx="5724720" cy="7018920"/>
            <a:chOff x="547560" y="1254240"/>
            <a:chExt cx="5724720" cy="7018920"/>
          </a:xfrm>
        </p:grpSpPr>
        <p:grpSp>
          <p:nvGrpSpPr>
            <p:cNvPr id="152" name="Grupo 24"/>
            <p:cNvGrpSpPr/>
            <p:nvPr/>
          </p:nvGrpSpPr>
          <p:grpSpPr>
            <a:xfrm>
              <a:off x="547560" y="1254240"/>
              <a:ext cx="5724720" cy="431640"/>
              <a:chOff x="547560" y="1254240"/>
              <a:chExt cx="5724720" cy="431640"/>
            </a:xfrm>
          </p:grpSpPr>
          <p:sp>
            <p:nvSpPr>
              <p:cNvPr id="153" name="95 Rectángulo"/>
              <p:cNvSpPr/>
              <p:nvPr/>
            </p:nvSpPr>
            <p:spPr>
              <a:xfrm>
                <a:off x="54756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"/>
              <p:cNvSpPr/>
              <p:nvPr/>
            </p:nvSpPr>
            <p:spPr>
              <a:xfrm>
                <a:off x="1411200" y="1286280"/>
                <a:ext cx="44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N T E C E D E N T E S  H I S T Ó R I C O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30 CuadroTexto"/>
            <p:cNvSpPr/>
            <p:nvPr/>
          </p:nvSpPr>
          <p:spPr>
            <a:xfrm>
              <a:off x="799920" y="1908000"/>
              <a:ext cx="5329440" cy="63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crea el Comité Municipal del deporte con el carácter de un organismo público descentralizado de la Administración Pública Municipal, con personalidad jurídica y patrimon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nsejo Municipal del Deporte tendrá su domicilio en las instalaciones de la Unidad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rtiva o donde posteriormente determine su Consejo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los efectos del presente COMITÉ MUNICIPAL DEL DEPORTE   se entenderá p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UDE                    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                              COMITÉ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NICIPIO                         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                         Al director del COMU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LAMENTO                   Al presente orden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MITÉ MUNICIPAL DEL DEPORTE (COMUDE) tendrá por objeto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Establecer la delimitación de un marco jurídico y reglamentario que conforme con las Leyes Municipales, Estatales y Federales existentes, permita normar las relaciones, acciones, recursos y procedimientos destinados a impulsar, fomentar y desarrollar el deporte, la cultura física y la recreació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Formular, proponer y ejecutar las políticas que orienten las acciones públicas que en materia de deporte, de cultura física y de recreación se realice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Generar acciones y fomentar relaciones y actitudes tendientes a obtener, combinar o proporcionar todo tipo de recursos para beneficio del deporte, concertando la participación de las personas físicas o morales de los diversos sectores de la sociedad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 de la iniciativa privada, para este fin; así como de los diversos órdenes de Gobiern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5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6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6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upo 24"/>
          <p:cNvGrpSpPr/>
          <p:nvPr/>
        </p:nvGrpSpPr>
        <p:grpSpPr>
          <a:xfrm>
            <a:off x="623880" y="2090880"/>
            <a:ext cx="5735520" cy="4626000"/>
            <a:chOff x="623880" y="2090880"/>
            <a:chExt cx="5735520" cy="4626000"/>
          </a:xfrm>
        </p:grpSpPr>
        <p:sp>
          <p:nvSpPr>
            <p:cNvPr id="181" name="69 Rectángulo"/>
            <p:cNvSpPr/>
            <p:nvPr/>
          </p:nvSpPr>
          <p:spPr>
            <a:xfrm>
              <a:off x="634680" y="4230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69 Rectángulo"/>
            <p:cNvSpPr/>
            <p:nvPr/>
          </p:nvSpPr>
          <p:spPr>
            <a:xfrm>
              <a:off x="623880" y="20908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uadroTexto 1"/>
            <p:cNvSpPr/>
            <p:nvPr/>
          </p:nvSpPr>
          <p:spPr>
            <a:xfrm>
              <a:off x="871200" y="2606760"/>
              <a:ext cx="5307120" cy="41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remos ser reconocidos como un gobierno honesto, capaz de generar una cultura de responsabilidad social y que dé respuesta a las necesidades del Municipio de La Antigu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70 CuadroTexto"/>
            <p:cNvSpPr/>
            <p:nvPr/>
          </p:nvSpPr>
          <p:spPr>
            <a:xfrm>
              <a:off x="2001600" y="2162160"/>
              <a:ext cx="27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"/>
            <p:cNvSpPr/>
            <p:nvPr/>
          </p:nvSpPr>
          <p:spPr>
            <a:xfrm>
              <a:off x="2995560" y="4262040"/>
              <a:ext cx="96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Texto 3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8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9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9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o 24"/>
          <p:cNvGrpSpPr/>
          <p:nvPr/>
        </p:nvGrpSpPr>
        <p:grpSpPr>
          <a:xfrm>
            <a:off x="549360" y="1398600"/>
            <a:ext cx="5724360" cy="5205600"/>
            <a:chOff x="549360" y="1398600"/>
            <a:chExt cx="5724360" cy="5205600"/>
          </a:xfrm>
        </p:grpSpPr>
        <p:sp>
          <p:nvSpPr>
            <p:cNvPr id="211" name="29 CuadroTexto"/>
            <p:cNvSpPr/>
            <p:nvPr/>
          </p:nvSpPr>
          <p:spPr>
            <a:xfrm>
              <a:off x="707760" y="1965240"/>
              <a:ext cx="5473800" cy="46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conformidad con el Plan Veracruzano de Desarrollo 2011 - 2016 y el Plan Municipal de Desarrollo 2014 – 2017, este Manual de Organización correspondiente a </a:t>
              </a: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l comité municipal del deporte,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e como referentes las disposiciones contenidas en la legislación Federal, Estatal y Municipal que a continuación se enuncia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 Constitución Política de los Estados Unidos mexican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 Constitución Política del Estado de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Ley general de cultura física y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-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y del Sistema Estatal de Cultura Física y Deporte para el Estado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  Ley Orgánica del municipio libre del Estado Veracruz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o de Gobierno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upo 31"/>
            <p:cNvGrpSpPr/>
            <p:nvPr/>
          </p:nvGrpSpPr>
          <p:grpSpPr>
            <a:xfrm>
              <a:off x="549360" y="1398600"/>
              <a:ext cx="5724360" cy="536400"/>
              <a:chOff x="549360" y="1398600"/>
              <a:chExt cx="5724360" cy="536400"/>
            </a:xfrm>
          </p:grpSpPr>
          <p:sp>
            <p:nvSpPr>
              <p:cNvPr id="213" name="71 CuadroTexto"/>
              <p:cNvSpPr/>
              <p:nvPr/>
            </p:nvSpPr>
            <p:spPr>
              <a:xfrm>
                <a:off x="2062080" y="162720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95 Rectángulo"/>
              <p:cNvSpPr/>
              <p:nvPr/>
            </p:nvSpPr>
            <p:spPr>
              <a:xfrm>
                <a:off x="549360" y="139860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96 CuadroTexto"/>
              <p:cNvSpPr/>
              <p:nvPr/>
            </p:nvSpPr>
            <p:spPr>
              <a:xfrm>
                <a:off x="2165400" y="1469880"/>
                <a:ext cx="25588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"/>
              <p:cNvSpPr/>
              <p:nvPr/>
            </p:nvSpPr>
            <p:spPr>
              <a:xfrm>
                <a:off x="2328840" y="143856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Texto 32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2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2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2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upo 24"/>
          <p:cNvGrpSpPr/>
          <p:nvPr/>
        </p:nvGrpSpPr>
        <p:grpSpPr>
          <a:xfrm>
            <a:off x="639720" y="1352520"/>
            <a:ext cx="5724720" cy="1199160"/>
            <a:chOff x="639720" y="1352520"/>
            <a:chExt cx="5724720" cy="1199160"/>
          </a:xfrm>
        </p:grpSpPr>
        <p:sp>
          <p:nvSpPr>
            <p:cNvPr id="242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96 CuadroTexto"/>
            <p:cNvSpPr/>
            <p:nvPr/>
          </p:nvSpPr>
          <p:spPr>
            <a:xfrm>
              <a:off x="2165400" y="1398240"/>
              <a:ext cx="2559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96 CuadroTexto"/>
            <p:cNvSpPr/>
            <p:nvPr/>
          </p:nvSpPr>
          <p:spPr>
            <a:xfrm>
              <a:off x="2309760" y="140616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29 CuadroTexto"/>
            <p:cNvSpPr/>
            <p:nvPr/>
          </p:nvSpPr>
          <p:spPr>
            <a:xfrm>
              <a:off x="749160" y="1955880"/>
              <a:ext cx="55058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¿NO CUENTA CON ATRIBUCIONE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o 25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71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o 41"/>
          <p:cNvGrpSpPr/>
          <p:nvPr/>
        </p:nvGrpSpPr>
        <p:grpSpPr>
          <a:xfrm>
            <a:off x="2378160" y="3467160"/>
            <a:ext cx="2016000" cy="1623960"/>
            <a:chOff x="2378160" y="3467160"/>
            <a:chExt cx="2016000" cy="1623960"/>
          </a:xfrm>
        </p:grpSpPr>
        <p:grpSp>
          <p:nvGrpSpPr>
            <p:cNvPr id="275" name="Grupo 34"/>
            <p:cNvGrpSpPr/>
            <p:nvPr/>
          </p:nvGrpSpPr>
          <p:grpSpPr>
            <a:xfrm>
              <a:off x="2378160" y="3467160"/>
              <a:ext cx="2016000" cy="616320"/>
              <a:chOff x="2378160" y="3467160"/>
              <a:chExt cx="2016000" cy="616320"/>
            </a:xfrm>
          </p:grpSpPr>
          <p:sp>
            <p:nvSpPr>
              <p:cNvPr id="276" name="CuadroTexto 30"/>
              <p:cNvSpPr/>
              <p:nvPr/>
            </p:nvSpPr>
            <p:spPr>
              <a:xfrm>
                <a:off x="2378160" y="3575520"/>
                <a:ext cx="2016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L COMITÉ MUNICIPAL DEL DEPOR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ángulo 32"/>
              <p:cNvSpPr/>
              <p:nvPr/>
            </p:nvSpPr>
            <p:spPr>
              <a:xfrm>
                <a:off x="2492280" y="3467160"/>
                <a:ext cx="180036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upo 35"/>
            <p:cNvGrpSpPr/>
            <p:nvPr/>
          </p:nvGrpSpPr>
          <p:grpSpPr>
            <a:xfrm>
              <a:off x="2918160" y="4752360"/>
              <a:ext cx="936000" cy="338760"/>
              <a:chOff x="2918160" y="4752360"/>
              <a:chExt cx="936000" cy="338760"/>
            </a:xfrm>
          </p:grpSpPr>
          <p:sp>
            <p:nvSpPr>
              <p:cNvPr id="279" name="CuadroTexto 31"/>
              <p:cNvSpPr/>
              <p:nvPr/>
            </p:nvSpPr>
            <p:spPr>
              <a:xfrm>
                <a:off x="2990160" y="4811400"/>
                <a:ext cx="79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ángulo 33"/>
              <p:cNvSpPr/>
              <p:nvPr/>
            </p:nvSpPr>
            <p:spPr>
              <a:xfrm>
                <a:off x="2918160" y="4752360"/>
                <a:ext cx="936000" cy="33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Conector recto 37"/>
            <p:cNvSpPr/>
            <p:nvPr/>
          </p:nvSpPr>
          <p:spPr>
            <a:xfrm>
              <a:off x="3392640" y="408312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uadroTexto 3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40:14Z</dcterms:modified>
  <cp:revision>57</cp:revision>
  <dc:subject/>
  <dc:title>Diapositiva 1</dc:title>
</cp:coreProperties>
</file>